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319-2597-44E1-BB72-8702A42EA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85A-2705-4FCC-BB98-F0788333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3588-0874-41DB-BF37-FD4B82CAF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855-2360-4B40-9FB5-E025A76A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FFA7-2032-4F1B-BF86-F49679C7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7E3-356C-4D3E-8F43-11563183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BC23-53DE-44F3-BF8E-2D8DD914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833-BC77-45BC-97A1-0E613792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B97-0CF3-47E8-A9AE-901CEA0B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2BF-1811-4220-A4E3-BC78EA5C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B862-8065-40A1-A08E-D950A757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1EB-9678-4F1D-8477-A63FB3EA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61B7-D631-4536-BEEC-DEA890629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ef.ru/" TargetMode="External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0.pn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2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3141360"/>
            <a:ext cx="69120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Impact"/>
              </a:rPr>
              <a:t>Технология разработки программ энергосбережения и  повышения энергоэффектив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620640"/>
            <a:ext cx="640872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Impact"/>
              </a:rPr>
              <a:t>И.А. Башма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Impact"/>
              </a:rPr>
              <a:t>Центр по эффективному использованию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Impact"/>
                <a:hlinkClick r:id="rId2"/>
              </a:rPr>
              <a:t>www.cenef.ru</a:t>
            </a:r>
            <a:r>
              <a:rPr b="0" lang="en-US" sz="1800" spc="-1" strike="noStrike">
                <a:solidFill>
                  <a:srgbClr val="000099"/>
                </a:solidFill>
                <a:latin typeface="Impact"/>
              </a:rPr>
              <a:t>     </a:t>
            </a:r>
            <a:r>
              <a:rPr b="0" lang="ru-RU" sz="1800" spc="-1" strike="noStrike">
                <a:solidFill>
                  <a:srgbClr val="000099"/>
                </a:solidFill>
                <a:latin typeface="Impact"/>
              </a:rPr>
              <a:t>8(499) </a:t>
            </a:r>
            <a:r>
              <a:rPr b="0" lang="en-US" sz="1800" spc="-1" strike="noStrike">
                <a:solidFill>
                  <a:srgbClr val="000099"/>
                </a:solidFill>
                <a:latin typeface="Impact"/>
              </a:rPr>
              <a:t>120-92-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176720" cy="2594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572000" y="765000"/>
            <a:ext cx="4170240" cy="2648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19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00"/>
                </a:solidFill>
                <a:latin typeface="Impact"/>
              </a:rPr>
              <a:t>Модель ЦЭНЭФ </a:t>
            </a:r>
            <a:r>
              <a:rPr b="1" lang="en-US" sz="3000" spc="-1" strike="noStrike">
                <a:solidFill>
                  <a:srgbClr val="990000"/>
                </a:solidFill>
                <a:latin typeface="Impact"/>
              </a:rPr>
              <a:t>ENERGYBAL </a:t>
            </a:r>
            <a:r>
              <a:rPr b="1" lang="ru-RU" sz="3000" spc="-1" strike="noStrike">
                <a:solidFill>
                  <a:srgbClr val="990000"/>
                </a:solidFill>
                <a:latin typeface="Impact"/>
              </a:rPr>
              <a:t>для прогноза ЕТЭ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0" y="3143160"/>
            <a:ext cx="4572000" cy="3092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788000" y="3068640"/>
            <a:ext cx="4140000" cy="2998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з нее не оценить вклад прочих факторов в снижение энергоемкости ВРП. Обучены специалисты ряда регионов и АПБ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0000"/>
                </a:solidFill>
                <a:latin typeface="Impact"/>
              </a:rPr>
              <a:t>Целевые установки по снижению энергоемкости ВРП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21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ижение энергоемкости ВРП на значительную величину не может быть только результатом технических изме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бы это было так, то для снижения энергоемкости на 40% во всех регионах пришлось бы за 10 лет полностью реализовать потенциал энергосбережения, то есть заменить все энергопотребляющие установки на самые лучшие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факторы снижения энергоемкости ВРП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ные сдвиги в экономике реги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двиги в продуктовой структуре промышленного произв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ст цен на энергонос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номный технический прогресс (естественное повышение энергоэффективности в процессах нового строительства и постепенной замены старого оборудования новым без стимулирующего воздействия Программы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ализация мероприятий Программ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Impact"/>
              </a:rPr>
              <a:t>Сочетание факторов снижения энергоемкости ВВП  Российской Федераци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042920" y="5589720"/>
            <a:ext cx="2521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нноваци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5589720"/>
            <a:ext cx="25210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нерционны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4572000" cy="3816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643280" y="1700280"/>
            <a:ext cx="4500720" cy="381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4000" y="6165720"/>
            <a:ext cx="78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сновная часть регионов не смогла решить этой 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990000"/>
                </a:solidFill>
                <a:latin typeface="Impact"/>
              </a:rPr>
              <a:t>Типовая структура Программ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рмативно-законодательное, организационное и информационное обеспечение деятельности по повышению энерго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осбережение и повышение энергоэффективности в организациях бюджетной 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осбережение и повышение энергоэффективности в электроэнерге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осбережение и повышение энергоэффективности в теплоэнергетике и коммунальном хозя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осбережение и повышение энергоэффективности в жилищном сект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осбережение и повышение энергоэффективности в промыш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осбережение и повышение энергоэффективности в сельском хозяй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Энергосбере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 повышение энергоэффективности на транспор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0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Impact"/>
              </a:rPr>
              <a:t>Структура расходов и источники финансирования по программе Тюменской области</a:t>
            </a:r>
            <a:r>
              <a:rPr b="1" lang="en-US" sz="37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5280" y="515772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использования внебюджетных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5516640"/>
            <a:ext cx="934920" cy="360360"/>
          </a:xfrm>
          <a:custGeom>
            <a:avLst/>
            <a:gdLst>
              <a:gd name="textAreaLeft" fmla="*/ 145800 w 934920"/>
              <a:gd name="textAreaRight" fmla="*/ 818280 w 93492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41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ъ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1341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788000" y="1773360"/>
            <a:ext cx="3970080" cy="3365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395280" y="1844640"/>
            <a:ext cx="4038480" cy="3278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3851280" y="5284800"/>
            <a:ext cx="4038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858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Impact"/>
              </a:rPr>
              <a:t>Уникальные характеристики Програм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5690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комплексны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хватывают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в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сновные сектора эконом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отличает данные Программы от отраслевых целевых программ и создает специфические сложности при их разработ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ы построены по принципу ре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типовых мероприят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каждом секторе экономик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долгосрочных целевых согла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в промышленности,  на трубопроводном и железнодорожном транспор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работке плана реализации Программы на очередной год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типовые объекты заменяются адресным списком реальных про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ой подход и формат подготовки программ использовался при разработке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Государственной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 програм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прошел согласование со всеми заинтересованными министерствами и  ведом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H="1" flipV="1" rot="5400000">
            <a:off x="827280" y="5229000"/>
            <a:ext cx="1511280" cy="1368360"/>
          </a:xfrm>
          <a:custGeom>
            <a:avLst/>
            <a:gdLst>
              <a:gd name="textAreaLeft" fmla="*/ 360 w 1511280"/>
              <a:gd name="textAreaRight" fmla="*/ 1512000 w 1511280"/>
              <a:gd name="textAreaTop" fmla="*/ -360 h 1368360"/>
              <a:gd name="textAreaBottom" fmla="*/ 13683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865" stAng="10800000" swAng="5400000"/>
                <a:lnTo>
                  <a:pt x="18030" y="3295"/>
                </a:lnTo>
                <a:lnTo>
                  <a:pt x="18030" y="0"/>
                </a:lnTo>
                <a:lnTo>
                  <a:pt x="21600" y="6079"/>
                </a:lnTo>
                <a:lnTo>
                  <a:pt x="18030" y="12158"/>
                </a:lnTo>
                <a:lnTo>
                  <a:pt x="18030" y="8863"/>
                </a:lnTo>
                <a:lnTo>
                  <a:pt x="12427" y="8863"/>
                </a:lnTo>
                <a:arcTo wR="6859" hR="3297" stAng="16200000" swAng="-5400000"/>
                <a:lnTo>
                  <a:pt x="5568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5435640" y="1773360"/>
            <a:ext cx="2881440" cy="861840"/>
          </a:xfrm>
          <a:custGeom>
            <a:avLst/>
            <a:gdLst>
              <a:gd name="textAreaLeft" fmla="*/ 450000 w 2881440"/>
              <a:gd name="textAreaRight" fmla="*/ 2521440 w 2881440"/>
              <a:gd name="textAreaTop" fmla="*/ 215280 h 861840"/>
              <a:gd name="textAreaBottom" fmla="*/ 646560 h 861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6fca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2771640" y="475920"/>
            <a:ext cx="5832720" cy="504720"/>
          </a:xfrm>
          <a:custGeom>
            <a:avLst/>
            <a:gdLst>
              <a:gd name="textAreaLeft" fmla="*/ 911160 w 5832720"/>
              <a:gd name="textAreaRight" fmla="*/ 5103720 w 58327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fca2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 rot="5542800">
            <a:off x="5160240" y="4300200"/>
            <a:ext cx="3170160" cy="1137240"/>
          </a:xfrm>
          <a:custGeom>
            <a:avLst/>
            <a:gdLst>
              <a:gd name="textAreaLeft" fmla="*/ 0 w 3170160"/>
              <a:gd name="textAreaRight" fmla="*/ 3170520 w 3170160"/>
              <a:gd name="textAreaTop" fmla="*/ 0 h 1137240"/>
              <a:gd name="textAreaBottom" fmla="*/ 1137240 h 1137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048" stAng="10800000" swAng="5400000"/>
                <a:lnTo>
                  <a:pt x="18044" y="3112"/>
                </a:lnTo>
                <a:lnTo>
                  <a:pt x="18044" y="0"/>
                </a:lnTo>
                <a:lnTo>
                  <a:pt x="21600" y="6079"/>
                </a:lnTo>
                <a:lnTo>
                  <a:pt x="18044" y="12158"/>
                </a:lnTo>
                <a:lnTo>
                  <a:pt x="18044" y="9046"/>
                </a:lnTo>
                <a:lnTo>
                  <a:pt x="12427" y="9046"/>
                </a:lnTo>
                <a:arcTo wR="6493" hR="3114" stAng="16200000" swAng="-5400000"/>
                <a:lnTo>
                  <a:pt x="5934" y="2160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16344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5364000" y="3573360"/>
            <a:ext cx="2880000" cy="1006560"/>
          </a:xfrm>
          <a:custGeom>
            <a:avLst/>
            <a:gdLst>
              <a:gd name="textAreaLeft" fmla="*/ 450000 w 2880000"/>
              <a:gd name="textAreaRight" fmla="*/ 2520000 w 2880000"/>
              <a:gd name="textAreaTop" fmla="*/ 251640 h 1006560"/>
              <a:gd name="textAreaBottom" fmla="*/ 754920 h 1006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6fca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7956720" y="1125360"/>
            <a:ext cx="792000" cy="44928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123200 h 4492800"/>
              <a:gd name="textAreaBottom" fmla="*/ 3369600 h 4492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fca2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7178400" y="30560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Стат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1052640"/>
            <a:ext cx="2232000" cy="5814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ЕТЭ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2708280"/>
            <a:ext cx="2160720" cy="7038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Лучшие 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4653000"/>
            <a:ext cx="2160720" cy="119124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Потенциал энергосбережения и кривые стоим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1746360" y="3588480"/>
            <a:ext cx="57610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Impact"/>
              </a:rPr>
              <a:t>Технология моделио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24360" y="1989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Публ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604760" y="3683520"/>
            <a:ext cx="59500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Технология обработки да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3860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Энергоауд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8000" y="981000"/>
            <a:ext cx="237492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Impact"/>
              </a:rPr>
              <a:t>Модель прогноза ЕТЭБ </a:t>
            </a: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- ENERGY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8000" y="1700280"/>
            <a:ext cx="237492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Модель ЭЭ в электроэнерге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2421000"/>
            <a:ext cx="237492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Модель ЭЭ в теплоэнерге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3141720"/>
            <a:ext cx="237492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Модель ЭЭ в промышл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971680" y="3683520"/>
            <a:ext cx="59500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Технология сбор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3860640"/>
            <a:ext cx="237492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Модель ЭЭ на транспор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8000" y="4653000"/>
            <a:ext cx="2374920" cy="6426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Модель ЭЭ в бюджетной сф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5445000"/>
            <a:ext cx="2374920" cy="67320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Модель ЭЭ в жилом фонде</a:t>
            </a: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-1298880" y="3683520"/>
            <a:ext cx="59500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Технология свода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736200" y="2975760"/>
            <a:ext cx="3814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Модель свода пр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Impact"/>
              </a:rPr>
              <a:t>Технология ЦЭНЭФ по разработке программ повышения энерго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-2235600" y="3683520"/>
            <a:ext cx="59500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Технология согласован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-1240200" y="3013200"/>
            <a:ext cx="2879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cc99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Готов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2626920" y="6237360"/>
            <a:ext cx="6048360" cy="620640"/>
          </a:xfrm>
          <a:custGeom>
            <a:avLst/>
            <a:gdLst>
              <a:gd name="textAreaLeft" fmla="*/ 945000 w 6048360"/>
              <a:gd name="textAreaRight" fmla="*/ 5292360 w 6048360"/>
              <a:gd name="textAreaTop" fmla="*/ 155160 h 620640"/>
              <a:gd name="textAreaBottom" fmla="*/ 465480 h 620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6fca2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64000" y="6308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Разработка инвестиционн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27640" y="549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Разработка типовых 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Impact"/>
              </a:rPr>
              <a:t>ЕТЭБ Свердловской области за 2008 г.</a:t>
            </a:r>
            <a:r>
              <a:rPr b="1" lang="en-US" sz="30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000"/>
            </a:br>
            <a:r>
              <a:rPr b="1" lang="en-US" sz="3000" spc="-1" strike="noStrike">
                <a:solidFill>
                  <a:srgbClr val="990000"/>
                </a:solidFill>
                <a:latin typeface="Impact"/>
              </a:rPr>
              <a:t>Введенная ЦЭНЭФ концепция пробивает себе пу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561080" cy="5178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1052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Немногим регионам удалось оценить ЕТЭБ  и правильно оценить энергоемкость ВР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43280" y="4149720"/>
            <a:ext cx="4500720" cy="2708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1557360"/>
            <a:ext cx="4321080" cy="496728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енциал экономии энергии равен 420 млн. т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енциал снижения потребления природного газа составляет 240 млрд. м</a:t>
            </a:r>
            <a:r>
              <a:rPr b="1" lang="ru-RU" sz="1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, или 55% от уровня его потребления в 2005 г., и существенно превышает экспорт газа из России в 2005-2008 гг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апитальные вложения, необходимые для полной реализации технического потенциала повышения энергоэффективности, составляют 324-357 млрд. дол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апитальные вложения, необходимые для развития ТЭК до 2020 г., оцениваются в сумму более 1 трлн. долл.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аучно-технический прогресс делает ресурс повышения энергоэффективности возобновляемым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Impact"/>
              </a:rPr>
              <a:t>Оценка потенциала экономии энергии для России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Impact"/>
              </a:rPr>
              <a:t>(работа для ЦЭНЭФ для Мирового Банка и МФК)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Impact"/>
              </a:rPr>
              <a:t>Россия технически может снизить потребление энергии на 45%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4643280" y="1413000"/>
            <a:ext cx="45007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solidFill>
            <a:srgbClr val="ffff99">
              <a:alpha val="9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Потенциал экономии энергии для Ростовской, Свердловской и Тверской областей (оценки ЦЭНЭ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4000" cy="4405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Impact"/>
              </a:rPr>
              <a:t>Структура потенциала экономии энергии для регионов УФО (оценки ЦЭНЭФ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697040" y="1311120"/>
            <a:ext cx="61149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3816360" cy="2235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43280" y="1413000"/>
            <a:ext cx="4140360" cy="22460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Impact"/>
              </a:rPr>
              <a:t>«Красные горки» потенциала повышения энергоэффе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003640" y="3500280"/>
            <a:ext cx="4140360" cy="2730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8480" y="6021000"/>
            <a:ext cx="84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пределение объема выработки электроэнергии на электростанциях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вердловской области по уровню эффектив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468360" y="1197000"/>
            <a:ext cx="3614760" cy="2374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3501000"/>
            <a:ext cx="432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пределение жилых зданий «энергоэффективного квартала» г. Тюмени по уровню эффект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5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0000"/>
                </a:solidFill>
                <a:latin typeface="Impact"/>
              </a:rPr>
              <a:t>Кривые «стоимости экономии энергии» - база оценки экономического и рыночного потенциала эконом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47720" y="2367000"/>
            <a:ext cx="4183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8381880" y="6181560"/>
            <a:ext cx="762120" cy="676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1280" y="1844640"/>
            <a:ext cx="73436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3:28:15Z</dcterms:created>
  <dc:creator>Igor Bashmakov</dc:creator>
  <dc:description/>
  <dc:language>en-US</dc:language>
  <cp:lastModifiedBy>Igor Bashmakov</cp:lastModifiedBy>
  <dcterms:modified xsi:type="dcterms:W3CDTF">2010-11-16T05:12:24Z</dcterms:modified>
  <cp:revision>32</cp:revision>
  <dc:subject/>
  <dc:title>Slide 1</dc:title>
</cp:coreProperties>
</file>